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7AB-22B2-4B02-90AF-B695AADC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4D9-8456-4FC2-84CA-34E7F3B7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AA2-C17B-49B5-8ED8-A8FC9C69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233-11A8-4772-9211-76BFCBB0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053-140C-445D-91E9-768A7A0D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A14-36D7-4B35-A9DD-06671204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797-C4C8-4E9F-AB53-FA5E271C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5DE-2713-4772-B5A2-53D768B5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B8B-2248-45F7-B530-780259FD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798-F55C-4AA1-9034-459D4723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136-2FC2-4746-BF24-3943D892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C37-0E7C-453F-AA23-15147DCD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F377-E5F7-4DBD-B842-0A53A9348A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620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Si, j’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é</a:t>
            </a: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ais toi, je leur parlera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2781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Je voudrais une gl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79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u devrais lui dire que tu ne veux plus sortir avec lu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476280"/>
            <a:ext cx="84978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Note to cop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The conditional is used to express « would » in English ie to express wishes or polite requests eg: I would like: je voudrais. When used with devoir + infinitive it is use to mean should + infinitive and when used with Pouvoir + infinitive it is used to mean could +infinitive. When used with pouvoir or devoir it is used to give advice or offer sugg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The conditional is formed by taking the future stem and adding the imperfect 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443700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Je mange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ais: 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I would 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Ils au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aient: 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They would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J’i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ais: 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I woul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Nous fe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ions: 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we would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Tu pour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ais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 aller: you coul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Il dev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ait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 aller: he shoul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404640"/>
            <a:ext cx="7920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ry the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lle (avoir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Vous (arriver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Ils (rester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Je (al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u (tomber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Nous (finir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76280"/>
            <a:ext cx="820728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Try translating these sentences into Engli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Si il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é</a:t>
            </a: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tait riche, il pourrait aller an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J’aimerais aller au cin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Si j’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é</a:t>
            </a: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tais toi, j’essayerais de trouver des autres am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Tu pourrais chercher ta so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Vous devriez parler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à</a:t>
            </a: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 tes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404640"/>
            <a:ext cx="8351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Try translating these sentences into Fren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If I was you I would talk to your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In my opinion you should find another best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In your place I would leave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Would you like an ice cr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If I was you I would go to another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981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st-ce que tu pourrais parler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à</a:t>
            </a: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 ta mam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06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A votre place, je la quittera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94172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724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Si j’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é</a:t>
            </a: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ais toi, je ne partirais p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 Black"/>
              </a:rPr>
              <a:t>Voila le conditionn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14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he conditional is a mood not a t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Qu’est-ce que c’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476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When do we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1) To express wishes or polite reques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141720"/>
            <a:ext cx="784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Je voudrais une g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(I would like an ice cr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J’aimerais aller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à</a:t>
            </a: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 la p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(I would like to go to the be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620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2) To give a suggestion or offer  advi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573360"/>
            <a:ext cx="835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852640"/>
            <a:ext cx="770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Tu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 Black"/>
              </a:rPr>
              <a:t>devrais</a:t>
            </a: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 lui pa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(you should talk to h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A votre place, je lui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 Black"/>
              </a:rPr>
              <a:t>parlerais</a:t>
            </a: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(If I was in your place I would talk to him/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Si j’etais toi, je lui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 Black"/>
              </a:rPr>
              <a:t>parle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 Black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If I was you I would talk to him/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620640"/>
            <a:ext cx="74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04640"/>
            <a:ext cx="8351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Any verb in conditional = would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eg: Je voudrais une glace: I would like an ice c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Devoir in conditional + infinitive= should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Eg: tu devrais lui parler: you should talk to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Pouvoir in conditional + infinitive = could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Eg: Tu pourrais lui parler: you could talk to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40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How do we form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64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ake the future 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(which is in most cases the infinitive – unless it is irregular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4149720"/>
            <a:ext cx="698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Manger: m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Aller: ir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549360"/>
            <a:ext cx="7848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2) Add the imperfect end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Je: 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u: 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Il/elle: 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Nous: 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Vous: i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Ils/elles: a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476280"/>
            <a:ext cx="8064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Je mange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Ils au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a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J’i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Nous fe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lle viend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Vous retourne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i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8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4:39:48Z</dcterms:created>
  <dc:creator>edtech</dc:creator>
  <dc:description/>
  <dc:language>en-US</dc:language>
  <cp:lastModifiedBy>Ministry of Education</cp:lastModifiedBy>
  <dcterms:modified xsi:type="dcterms:W3CDTF">2009-06-08T21:43:02Z</dcterms:modified>
  <cp:revision>6</cp:revision>
  <dc:subject/>
  <dc:title>Slide 1</dc:title>
</cp:coreProperties>
</file>